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1839C-559C-4D20-8986-A9D0CFFD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FDFAF-44D8-42D6-BAE1-5FE4C54B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7B094-712C-4A27-9A42-F9347291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387D5-62B3-44BE-B2A0-A5F2DE5E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5F49-F638-4F20-B251-8BC33E67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5292-7A16-4F8F-9E31-55E6CB2C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0F43-CA1E-442A-ADB4-D6001FB1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0491-1F02-477B-82D1-3F9425AF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6DBD-8FEE-4024-A9AE-98C38294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1B66-A50C-4138-BF15-97737591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2A70-9C62-4A92-A8AD-79F04ABF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3EFE-A53D-461F-9E0F-87A49F60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EFA7-0338-4E40-83A9-ADDB3F3A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CA1A-60A0-4E2D-8CF1-ADDF781F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1008-C518-4F96-87FC-B9107C81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6815-3520-4CFD-A511-C132E274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3030-06A9-4C35-ADD5-54B906EB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68E95-5448-49E2-B274-2A0826FD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51F70-A851-41E0-A2B2-C0CDEFFC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54FC1-5811-4D21-B4C9-D55D8DB1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53F5D-5885-4F2D-8705-A517543B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52CBF-5158-4B6C-808C-47AAB729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03F66-7102-4FBF-895F-B62E7A9F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68D3D-0DEB-45E3-B63F-C8D6AED2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DC9A-9FCB-49EB-8D21-8248208B0E1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27DF-9FBA-455B-BA01-A3F41951ADB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ON NOËL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crit par: Mélanie P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1129800">
            <a:off x="6300720" y="980640"/>
            <a:ext cx="2592360" cy="2438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20307600">
            <a:off x="0" y="1341000"/>
            <a:ext cx="29559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souper de noë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’ai bien aimé le souper de noël. J’y ai mangé de la dinde, de la tourtière et même de la bûche de noël. Un vrai délic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3429000"/>
            <a:ext cx="4032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réveillon de noë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us sommes allés passer le réveillon chez mes grands-parents. Mon père a joué de la guitare et ma mère a chanté des chansons. Nous avons tous dansé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419640" y="3645000"/>
            <a:ext cx="1908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lendemai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À notre réveil, ma grand-mère avait préparé un brunch et tout le monde a mang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ès, nous nous sommes habillés chaudement et nous sommes allés gliss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Nous avons eu beaucoup de plaisir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5534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temps du repo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ès les festivités, j’en ai profité pour me reposer un pe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2840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tour à l’éco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enant, je suis reposée et je suis de retour à l’école pour vous enseig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84360" y="2781360"/>
            <a:ext cx="41036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9:41:45Z</dcterms:created>
  <dc:creator>STI</dc:creator>
  <dc:description/>
  <dc:language>en-US</dc:language>
  <cp:lastModifiedBy>STI</cp:lastModifiedBy>
  <dcterms:modified xsi:type="dcterms:W3CDTF">2007-11-19T19:58:01Z</dcterms:modified>
  <cp:revision>8</cp:revision>
  <dc:subject/>
  <dc:title>MON NOËL</dc:title>
</cp:coreProperties>
</file>